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move the slid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02933-60EA-4A29-B855-C1ADFC6E2D1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3C9C2-FC44-4CE9-A3DE-F235683DE1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F48E4-38A6-4D85-84AB-389639D5FD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14654-1E14-4DFB-90C8-5FFA919941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2B7E-DB63-4E7A-B9D6-16D2DA29E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5E2D-8193-424B-BBEA-DBA24DE78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505A-80C3-4B72-A397-00466526D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0893-2B89-42C9-ACA2-2D05F26C2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40F5F-5F80-4500-BAC5-81B5B6812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7A0FE-E33B-47B0-90C1-569F6BEA5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1994D-DDD0-4A45-97DF-66CB8F608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55FF7-8CEB-47ED-8037-48F459311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622BC-1632-4B37-BD5E-00291E8D7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779C1-16F5-4FF8-99C9-F764D9936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03424-68D0-4109-9959-FF9948D7B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8EDE-A0CE-4AEC-8688-8B4B5B46E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CDD72-D53E-4D48-A86E-148CC99E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1BC38-A8F4-43CA-94AE-12910665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6EDBA-2FE2-496B-B929-04D2854E8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17C2A-A43C-4D91-BC95-77B1D5FD1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BDD00-B466-49FB-91D6-9EF357E08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951D9-DB8A-47F1-8DF9-8E74A63C3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DEFF1-03D4-4DBC-BBD1-DF1511E12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9CF30-3E48-47CE-A505-0948AE410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85B46-9784-474B-BB65-D9F4B4429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843E4-175E-44AF-BA2D-052B28DC5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CCAB-B23C-40A8-AF8D-D6D2BFA03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9EA04-5D29-40A3-8FE8-D20E0DBC5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AF4AF-5EA5-4CC4-81A0-FF16DC0DD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A4C1B-5A42-4FC2-8EDA-4D54FBA35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C92A1-A5EF-461A-B59C-A10DAEF8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42762-7DA8-4C10-9C85-BC9C9E119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F7164-7404-4F9D-85F1-D3BEA5539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6C360-7548-4D60-83D4-733D076D5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74526-7B8D-473A-8CCC-663D8B5B1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7C868-5A71-404C-9EB3-82FE5386A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29BAC-6293-496D-9978-AEC531CF4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B71D-5233-4276-9386-976F1BE14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6C337-6960-45BF-9D55-1130DC51C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511D9-863C-451F-A3AB-E797BF36E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B4364-5731-4B22-B7B8-0E37D13D8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61357-AF03-4C47-A7CF-8E02F21BA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C268D-D545-416A-A098-9AFAADB4A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29797-FFBE-443D-86BE-BA14E0319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15A44-5BBA-427C-9020-42A6ABD50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067A5-ADA3-41AA-BAB2-93F64284A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E6D00-DF27-40F8-A7C3-81E5330AE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D448B1-6550-4A67-B809-12D29B569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DAF6-2117-451B-8ED1-750514C9F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C98E20-3C9B-4BA0-A80E-F01F8C981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75AA4D-7B97-4E8B-98E4-E13E77972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B1D2C9-8E4B-4241-A5FE-A9EDF9F26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FC82B-C7FB-4112-AB7B-0EE42812D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AD815A-CBF1-4248-A5E5-B2C9FE9D8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5F7F4F-96FF-4A13-A36E-54BF702A4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B97A2C-067C-4849-82AF-0F8882D58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14A377-8D3B-4DDE-8681-2DDA22F87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749CDC-6829-47F6-84B2-77136C994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20D690-72C3-4D6D-8824-C5277CDCC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AE84-4C6A-47E1-A922-752AAB4FE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A05AA6-1430-4A8C-9D9B-C61824638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AE7E87-216A-4E2E-80B0-3CF6F9956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D5BBE8-6482-47CA-9B15-0D5306065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1EB092-A418-43BB-A5A5-46DA841CB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50CD5C-598E-4B63-B6E7-0C1B201D4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0A43ED-6BE6-4196-A298-89C76EAAF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498EEB-A170-4F69-9A56-DC11C081B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3178CC-6F59-486B-8FF1-A9046C9C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54C1AA-7500-4DF4-95A6-9DDDF2C8C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854493-5C6E-42A6-A182-D3F7F004A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AB4E-8078-48DB-92C4-CF8F31231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B2A81C-F0F8-436E-870A-7E3154233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045654-CB3E-4E17-99D4-C1D040BC8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11861D-97F7-4BBE-9E22-9335A2783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393A3E-0C78-4943-9AA0-EFEC6A3D1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4EC6B3-E79B-4F65-BBE1-0AA213BAE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7D4DA2-4022-4324-9F26-A79B9C19C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C7C610-2738-4377-89F4-E7BC8BF40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1BE487-2130-4972-A7E8-895189663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5B3AC2-C5EC-4CEB-BBD8-E9B707A00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EC0E45-0D68-4209-8D8D-637078294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20E4-E7AC-4233-9D95-3655B329E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7AE909-86BF-4F8C-981E-99AA114D0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457E5D-A8FD-40E2-9880-36A9D31A5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6C0964-D9D9-45B6-A77A-7E8AB346E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8CD5DF-CDDE-432B-8C96-492CADF09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51633C-EDAF-48EF-B6CC-F24B647B9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46A9-6761-43CC-8B7E-02AB18FA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400800"/>
            <a:ext cx="1219212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334200"/>
            <a:ext cx="1219212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48D41-6944-474B-95BF-5DA6899B384C}" type="slidenum"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1193760" y="1738440"/>
            <a:ext cx="996624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3240" y="6400800"/>
            <a:ext cx="12188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633420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traight Connector 8"/>
          <p:cNvSpPr/>
          <p:nvPr/>
        </p:nvSpPr>
        <p:spPr>
          <a:xfrm>
            <a:off x="1208160" y="4343400"/>
            <a:ext cx="98758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556E8-5316-4E22-A1A1-DA47F87D2C9A}" type="slidenum"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3240" y="6400800"/>
            <a:ext cx="12188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633420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traight Connector 8"/>
          <p:cNvSpPr/>
          <p:nvPr/>
        </p:nvSpPr>
        <p:spPr>
          <a:xfrm>
            <a:off x="1208160" y="4343400"/>
            <a:ext cx="98758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A1B55-6F75-4B1C-978A-F5EFD2E32FCA}" type="slidenum"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3240" y="6400800"/>
            <a:ext cx="12188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0" y="633420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20647-64FF-46CB-BA44-EFE5780CC827}" type="slidenum"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0" y="0"/>
            <a:ext cx="4051440" cy="68580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4040280" y="0"/>
            <a:ext cx="63360" cy="68580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465120" y="6459480"/>
            <a:ext cx="2619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4800600" y="6459480"/>
            <a:ext cx="464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6370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4E06D-8CEC-45CF-AA4B-545F623421D7}" type="slidenum">
              <a:rPr b="0" lang="zh-CN" sz="1000" spc="-1" strike="noStrike">
                <a:solidFill>
                  <a:srgbClr val="63705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0" y="4952880"/>
            <a:ext cx="12188880" cy="190512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0" y="491508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B2FD5-774B-4BDF-AD0E-39056C571CED}" type="slidenum"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3240" y="6400800"/>
            <a:ext cx="12188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0" y="633420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7E930-A781-4053-BF7C-8F4748E481CA}" type="slidenum"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kyglkj.shnu.edu.cn/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hnu.edu.cn/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282,16,&#20363;&#65306;&#20010;&#20154;&#35748;&#39046;" TargetMode="External"/><Relationship Id="rId2" Type="http://schemas.openxmlformats.org/officeDocument/2006/relationships/hyperlink" Target="271,20,&#20363;&#65306;&#20010;&#20154;&#26032;&#22686;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272,21,&#24187;&#28783;&#29255; 21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kyglkj.shnu.edu.cn/" TargetMode="External"/><Relationship Id="rId2" Type="http://schemas.openxmlformats.org/officeDocument/2006/relationships/hyperlink" Target="http://www.shnu.edu.cn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523880" y="172872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Calibri Light"/>
              </a:rPr>
              <a:t>上海师范大学科研管理系统（科技）</a:t>
            </a:r>
            <a:br>
              <a:rPr sz="4400"/>
            </a:br>
            <a:br>
              <a:rPr sz="4400"/>
            </a:br>
            <a:r>
              <a:rPr b="0" lang="zh-CN" sz="4400" spc="-1" strike="noStrike">
                <a:solidFill>
                  <a:srgbClr val="262626"/>
                </a:solidFill>
                <a:latin typeface="Calibri Light"/>
              </a:rPr>
              <a:t>使用指南</a:t>
            </a:r>
            <a:r>
              <a:rPr b="0" lang="en-US" sz="4400" spc="-1" strike="noStrike">
                <a:solidFill>
                  <a:srgbClr val="262626"/>
                </a:solidFill>
                <a:latin typeface="Calibri Light"/>
              </a:rPr>
              <a:t>1.0</a:t>
            </a:r>
            <a:endParaRPr b="0" lang="en-US" sz="44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143000" y="1366560"/>
            <a:ext cx="105156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404040"/>
                </a:solidFill>
                <a:latin typeface="Calibri Light"/>
              </a:rPr>
              <a:t>网址登录：</a:t>
            </a:r>
            <a:r>
              <a:rPr b="0" lang="en-US" sz="2900" spc="-1" strike="noStrike" u="sng">
                <a:solidFill>
                  <a:srgbClr val="2998e3"/>
                </a:solidFill>
                <a:uFillTx/>
                <a:latin typeface="Calibri Light"/>
                <a:hlinkClick r:id="rId1"/>
              </a:rPr>
              <a:t>http://kyglkj.shnu.edu.cn</a:t>
            </a:r>
            <a:br>
              <a:rPr sz="2900"/>
            </a:br>
            <a:endParaRPr b="0" lang="en-US" sz="29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9164520" y="2922480"/>
            <a:ext cx="2494080" cy="23688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Calibri"/>
              </a:rPr>
              <a:t>打开网址页面后点击“统一身份认证登录”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39" name="图片 3" descr=""/>
          <p:cNvPicPr/>
          <p:nvPr/>
        </p:nvPicPr>
        <p:blipFill>
          <a:blip r:embed="rId2"/>
          <a:stretch/>
        </p:blipFill>
        <p:spPr>
          <a:xfrm>
            <a:off x="446040" y="1857240"/>
            <a:ext cx="7950240" cy="4989600"/>
          </a:xfrm>
          <a:prstGeom prst="rect">
            <a:avLst/>
          </a:prstGeom>
          <a:ln w="0">
            <a:noFill/>
          </a:ln>
        </p:spPr>
      </p:pic>
      <p:sp>
        <p:nvSpPr>
          <p:cNvPr id="340" name="矩形 4"/>
          <p:cNvSpPr/>
          <p:nvPr/>
        </p:nvSpPr>
        <p:spPr>
          <a:xfrm>
            <a:off x="5830920" y="4548240"/>
            <a:ext cx="1579680" cy="3682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直接连接符 6"/>
          <p:cNvSpPr/>
          <p:nvPr/>
        </p:nvSpPr>
        <p:spPr>
          <a:xfrm flipV="1">
            <a:off x="7410600" y="3544920"/>
            <a:ext cx="1627200" cy="11224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76040" y="876240"/>
            <a:ext cx="6630840" cy="82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404040"/>
                </a:solidFill>
                <a:latin typeface="Calibri Light"/>
              </a:rPr>
              <a:t>学校主页登录：</a:t>
            </a:r>
            <a:r>
              <a:rPr b="0" lang="en-US" sz="2900" spc="-1" strike="noStrike" u="sng">
                <a:solidFill>
                  <a:srgbClr val="2998e3"/>
                </a:solidFill>
                <a:uFillTx/>
                <a:latin typeface="Calibri Light"/>
                <a:hlinkClick r:id="rId1"/>
              </a:rPr>
              <a:t> http://www.shnu.edu.cn</a:t>
            </a:r>
            <a:endParaRPr b="0" lang="en-US" sz="29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004240" y="3646440"/>
            <a:ext cx="3752640" cy="1617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bri"/>
              </a:rPr>
              <a:t>打开学校主页后通过教师信息门户登录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44" name="图片 3" descr=""/>
          <p:cNvPicPr/>
          <p:nvPr/>
        </p:nvPicPr>
        <p:blipFill>
          <a:blip r:embed="rId2"/>
          <a:stretch/>
        </p:blipFill>
        <p:spPr>
          <a:xfrm>
            <a:off x="689040" y="1998720"/>
            <a:ext cx="6637320" cy="4730760"/>
          </a:xfrm>
          <a:prstGeom prst="rect">
            <a:avLst/>
          </a:prstGeom>
          <a:ln w="0">
            <a:noFill/>
          </a:ln>
        </p:spPr>
      </p:pic>
      <p:sp>
        <p:nvSpPr>
          <p:cNvPr id="345" name="矩形 4"/>
          <p:cNvSpPr/>
          <p:nvPr/>
        </p:nvSpPr>
        <p:spPr>
          <a:xfrm>
            <a:off x="6113520" y="2975040"/>
            <a:ext cx="1138320" cy="65412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直接连接符 6"/>
          <p:cNvSpPr/>
          <p:nvPr/>
        </p:nvSpPr>
        <p:spPr>
          <a:xfrm>
            <a:off x="7242120" y="3301920"/>
            <a:ext cx="881280" cy="3445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6091200" y="2166480"/>
            <a:ext cx="2874960" cy="37465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Calibri"/>
              </a:rPr>
              <a:t>登录后在个人信息门户页面左下角“各类业务系统”中选择“科研管理系统（科技）”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48" name="图片 3" descr=""/>
          <p:cNvPicPr/>
          <p:nvPr/>
        </p:nvPicPr>
        <p:blipFill>
          <a:blip r:embed="rId1"/>
          <a:stretch/>
        </p:blipFill>
        <p:spPr>
          <a:xfrm>
            <a:off x="114480" y="2065320"/>
            <a:ext cx="5715000" cy="3753000"/>
          </a:xfrm>
          <a:prstGeom prst="rect">
            <a:avLst/>
          </a:prstGeom>
          <a:ln w="0">
            <a:noFill/>
          </a:ln>
        </p:spPr>
      </p:pic>
      <p:pic>
        <p:nvPicPr>
          <p:cNvPr id="349" name="图片 4" descr=""/>
          <p:cNvPicPr/>
          <p:nvPr/>
        </p:nvPicPr>
        <p:blipFill>
          <a:blip r:embed="rId2"/>
          <a:stretch/>
        </p:blipFill>
        <p:spPr>
          <a:xfrm>
            <a:off x="9344160" y="2405160"/>
            <a:ext cx="2266920" cy="2962080"/>
          </a:xfrm>
          <a:prstGeom prst="rect">
            <a:avLst/>
          </a:prstGeom>
          <a:ln w="0">
            <a:noFill/>
          </a:ln>
        </p:spPr>
      </p:pic>
      <p:cxnSp>
        <p:nvCxnSpPr>
          <p:cNvPr id="350" name="直接箭头连接符 6"/>
          <p:cNvCxnSpPr/>
          <p:nvPr/>
        </p:nvCxnSpPr>
        <p:spPr>
          <a:xfrm>
            <a:off x="5829480" y="3885840"/>
            <a:ext cx="3350160" cy="108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51" name="矩形 7"/>
          <p:cNvSpPr/>
          <p:nvPr/>
        </p:nvSpPr>
        <p:spPr>
          <a:xfrm>
            <a:off x="9344160" y="4572000"/>
            <a:ext cx="1438200" cy="21420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7587720" y="2327040"/>
            <a:ext cx="3567240" cy="29574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Calibri"/>
              </a:rPr>
              <a:t>登录系统后可查看系统通知公告、个人资料、个人科研信息等内容。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53" name="图片 3" descr=""/>
          <p:cNvPicPr/>
          <p:nvPr/>
        </p:nvPicPr>
        <p:blipFill>
          <a:blip r:embed="rId1"/>
          <a:stretch/>
        </p:blipFill>
        <p:spPr>
          <a:xfrm>
            <a:off x="474840" y="762120"/>
            <a:ext cx="664992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3189240" y="2404800"/>
            <a:ext cx="708336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Calibri"/>
              </a:rPr>
              <a:t>教师个人根据自己的科研情况，如实填报相关内容和信息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Calibri"/>
              </a:rPr>
              <a:t>系统使用中存在的问题或意见可邮件至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mengsy@shnu.edu.c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55" name="图片 3" descr=""/>
          <p:cNvPicPr/>
          <p:nvPr/>
        </p:nvPicPr>
        <p:blipFill>
          <a:blip r:embed="rId1"/>
          <a:stretch/>
        </p:blipFill>
        <p:spPr>
          <a:xfrm>
            <a:off x="928800" y="1116000"/>
            <a:ext cx="1755720" cy="48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2700360" y="2604600"/>
            <a:ext cx="5968800" cy="30718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40404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2998e3"/>
                </a:solidFill>
                <a:uFillTx/>
                <a:latin typeface="Calibri"/>
                <a:hlinkClick r:id="rId1"/>
              </a:rPr>
              <a:t>个人认领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40404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40404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2998e3"/>
                </a:solidFill>
                <a:uFillTx/>
                <a:latin typeface="Calibri"/>
                <a:hlinkClick r:id="rId2"/>
              </a:rPr>
              <a:t>个人新增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7" name="标题 1"/>
          <p:cNvSpPr/>
          <p:nvPr/>
        </p:nvSpPr>
        <p:spPr>
          <a:xfrm>
            <a:off x="1249200" y="297000"/>
            <a:ext cx="10058400" cy="14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4040"/>
                </a:solidFill>
                <a:latin typeface="Calibri Light"/>
              </a:rPr>
              <a:t>例：个人认领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Calibri"/>
              </a:rPr>
              <a:t>电子菜单“科研成果”，随后选择子菜单“论文成果”，即出现如图所示页面；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Calibri"/>
              </a:rPr>
              <a:t>列表中会出现近年来教师个人的论文情况，点击“编辑”可对文章进行修改。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60" name="图片 2" descr=""/>
          <p:cNvPicPr/>
          <p:nvPr/>
        </p:nvPicPr>
        <p:blipFill>
          <a:blip r:embed="rId1"/>
          <a:stretch/>
        </p:blipFill>
        <p:spPr>
          <a:xfrm>
            <a:off x="0" y="3025800"/>
            <a:ext cx="12106440" cy="5686560"/>
          </a:xfrm>
          <a:prstGeom prst="rect">
            <a:avLst/>
          </a:prstGeom>
          <a:ln w="0">
            <a:noFill/>
          </a:ln>
        </p:spPr>
      </p:pic>
      <p:sp>
        <p:nvSpPr>
          <p:cNvPr id="361" name="矩形 3"/>
          <p:cNvSpPr/>
          <p:nvPr/>
        </p:nvSpPr>
        <p:spPr>
          <a:xfrm>
            <a:off x="10794960" y="4037040"/>
            <a:ext cx="509760" cy="32076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矩形 5"/>
          <p:cNvSpPr/>
          <p:nvPr/>
        </p:nvSpPr>
        <p:spPr>
          <a:xfrm>
            <a:off x="0" y="4759200"/>
            <a:ext cx="1096920" cy="4780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64" name="内容占位符 2" descr=""/>
          <p:cNvPicPr/>
          <p:nvPr/>
        </p:nvPicPr>
        <p:blipFill>
          <a:blip r:embed="rId1"/>
          <a:stretch/>
        </p:blipFill>
        <p:spPr>
          <a:xfrm>
            <a:off x="4476600" y="2084400"/>
            <a:ext cx="7445520" cy="5337000"/>
          </a:xfrm>
          <a:prstGeom prst="rect">
            <a:avLst/>
          </a:prstGeom>
          <a:ln w="0">
            <a:noFill/>
          </a:ln>
        </p:spPr>
      </p:pic>
      <p:sp>
        <p:nvSpPr>
          <p:cNvPr id="365" name="矩形 4"/>
          <p:cNvSpPr/>
          <p:nvPr/>
        </p:nvSpPr>
        <p:spPr>
          <a:xfrm>
            <a:off x="8467560" y="3726000"/>
            <a:ext cx="3051360" cy="47772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文本框 5"/>
          <p:cNvSpPr/>
          <p:nvPr/>
        </p:nvSpPr>
        <p:spPr>
          <a:xfrm>
            <a:off x="177840" y="1900080"/>
            <a:ext cx="4017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随后教师根据实际情况对论文进行详细信息填写和修改，</a:t>
            </a: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需要注意的是</a:t>
            </a:r>
            <a:r>
              <a:rPr b="0" lang="zh-CN" sz="1800" spc="-1" strike="noStrike">
                <a:solidFill>
                  <a:srgbClr val="ff0000"/>
                </a:solidFill>
                <a:latin typeface="Calibri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0" lang="zh-CN" sz="1800" spc="-1" strike="noStrike">
                <a:solidFill>
                  <a:srgbClr val="ff0000"/>
                </a:solidFill>
                <a:latin typeface="Calibri"/>
              </a:rPr>
              <a:t>、“发表刊物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/</a:t>
            </a:r>
            <a:r>
              <a:rPr b="0" lang="zh-CN" sz="1800" spc="-1" strike="noStrike">
                <a:solidFill>
                  <a:srgbClr val="ff0000"/>
                </a:solidFill>
                <a:latin typeface="Calibri"/>
              </a:rPr>
              <a:t>论文集”务必采用输入方式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0" lang="zh-CN" sz="1800" spc="-1" strike="noStrike">
                <a:solidFill>
                  <a:srgbClr val="ff0000"/>
                </a:solidFill>
                <a:latin typeface="Calibri"/>
              </a:rPr>
              <a:t>勿使用复制黏贴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)</a:t>
            </a:r>
            <a:r>
              <a:rPr b="0" lang="zh-CN" sz="1800" spc="-1" strike="noStrike">
                <a:solidFill>
                  <a:srgbClr val="ff0000"/>
                </a:solidFill>
                <a:latin typeface="Calibri"/>
              </a:rPr>
              <a:t>，后与数据库中的刊物进行匹配选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zh-CN" sz="1800" spc="-1" strike="noStrike">
                <a:solidFill>
                  <a:srgbClr val="ff0000"/>
                </a:solidFill>
                <a:latin typeface="Calibri"/>
              </a:rPr>
              <a:t>、系统导入时将历年获奖名单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0" lang="zh-CN" sz="1800" spc="-1" strike="noStrike">
                <a:solidFill>
                  <a:srgbClr val="ff0000"/>
                </a:solidFill>
                <a:latin typeface="Calibri"/>
              </a:rPr>
              <a:t>奖金领取者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)</a:t>
            </a:r>
            <a:r>
              <a:rPr b="0" lang="zh-CN" sz="1800" spc="-1" strike="noStrike">
                <a:solidFill>
                  <a:srgbClr val="ff0000"/>
                </a:solidFill>
                <a:latin typeface="Calibri"/>
              </a:rPr>
              <a:t>作为第一作者，但教师个人修改时应根据实际情况进行调整，可选择左上角“论文作者”标签修改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7" name="图片 6" descr=""/>
          <p:cNvPicPr/>
          <p:nvPr/>
        </p:nvPicPr>
        <p:blipFill>
          <a:blip r:embed="rId2"/>
          <a:stretch/>
        </p:blipFill>
        <p:spPr>
          <a:xfrm>
            <a:off x="281160" y="5030640"/>
            <a:ext cx="3981240" cy="2390760"/>
          </a:xfrm>
          <a:prstGeom prst="rect">
            <a:avLst/>
          </a:prstGeom>
          <a:ln w="0">
            <a:noFill/>
          </a:ln>
        </p:spPr>
      </p:pic>
      <p:sp>
        <p:nvSpPr>
          <p:cNvPr id="368" name="矩形 9"/>
          <p:cNvSpPr/>
          <p:nvPr/>
        </p:nvSpPr>
        <p:spPr>
          <a:xfrm>
            <a:off x="4390920" y="2166840"/>
            <a:ext cx="3052800" cy="47952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矩形 10"/>
          <p:cNvSpPr/>
          <p:nvPr/>
        </p:nvSpPr>
        <p:spPr>
          <a:xfrm>
            <a:off x="4600440" y="3605040"/>
            <a:ext cx="3051360" cy="23832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矩形 8"/>
          <p:cNvSpPr/>
          <p:nvPr/>
        </p:nvSpPr>
        <p:spPr>
          <a:xfrm>
            <a:off x="1319040" y="5030640"/>
            <a:ext cx="3051360" cy="25336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Calibri Light"/>
              </a:rPr>
              <a:t>其他注意事项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1773000" y="2440080"/>
            <a:ext cx="8451720" cy="3687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40404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Calibri"/>
              </a:rPr>
              <a:t>由于系统设置原因，认领的论文在导入时，如果标题过长，论文题目会出现“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…</a:t>
            </a:r>
            <a:r>
              <a:rPr b="0" lang="zh-CN" sz="2000" spc="-1" strike="noStrike">
                <a:solidFill>
                  <a:srgbClr val="404040"/>
                </a:solidFill>
                <a:latin typeface="Calibri"/>
              </a:rPr>
              <a:t>”字符缺失情况，请个人在认领论文时将题目补充完整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40404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0" lang="zh-CN" sz="2000" spc="-1" strike="noStrike">
                <a:solidFill>
                  <a:srgbClr val="404040"/>
                </a:solidFill>
                <a:latin typeface="Calibri"/>
              </a:rPr>
              <a:t>发表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/</a:t>
            </a:r>
            <a:r>
              <a:rPr b="0" lang="zh-CN" sz="2000" spc="-1" strike="noStrike">
                <a:solidFill>
                  <a:srgbClr val="404040"/>
                </a:solidFill>
                <a:latin typeface="Calibri"/>
              </a:rPr>
              <a:t>出版时间”为系统根据年份所默认，请个人在认领论文时修改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40404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Calibri"/>
              </a:rPr>
              <a:t>论文认领时，请将</a:t>
            </a:r>
            <a:r>
              <a:rPr b="1" lang="zh-CN" sz="2000" spc="-1" strike="noStrike">
                <a:solidFill>
                  <a:srgbClr val="404040"/>
                </a:solidFill>
                <a:latin typeface="Calibri"/>
              </a:rPr>
              <a:t>所有信息补充完整</a:t>
            </a:r>
            <a:r>
              <a:rPr b="0" lang="zh-CN" sz="2000" spc="-1" strike="noStrike">
                <a:solidFill>
                  <a:srgbClr val="404040"/>
                </a:solidFill>
                <a:latin typeface="Calibri"/>
              </a:rPr>
              <a:t>方可保存，并送至审核。</a:t>
            </a:r>
            <a:r>
              <a:rPr b="0" lang="zh-CN" sz="2000" spc="-1" strike="noStrike" u="sng">
                <a:solidFill>
                  <a:srgbClr val="2998e3"/>
                </a:solidFill>
                <a:uFillTx/>
                <a:latin typeface="Calibri"/>
                <a:hlinkClick r:id="rId1"/>
              </a:rPr>
              <a:t>（操作步骤参照：个人新增）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40404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Calibri"/>
              </a:rPr>
              <a:t>不在“论文成果”列表内的论文可通过“论文新增”方式添加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40404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Calibri"/>
              </a:rPr>
              <a:t>数据导入过程中可能存在信息错误可自行修改调整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4040"/>
                </a:solidFill>
                <a:latin typeface="Calibri Light"/>
              </a:rPr>
              <a:t>例：个人新增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74" name="Picture 7" descr=""/>
          <p:cNvPicPr/>
          <p:nvPr/>
        </p:nvPicPr>
        <p:blipFill>
          <a:blip r:embed="rId1"/>
          <a:stretch/>
        </p:blipFill>
        <p:spPr>
          <a:xfrm>
            <a:off x="806400" y="3508200"/>
            <a:ext cx="10326600" cy="2675160"/>
          </a:xfrm>
          <a:prstGeom prst="rect">
            <a:avLst/>
          </a:prstGeom>
          <a:ln w="0">
            <a:noFill/>
          </a:ln>
        </p:spPr>
      </p:pic>
      <p:sp>
        <p:nvSpPr>
          <p:cNvPr id="375" name="矩形 4"/>
          <p:cNvSpPr/>
          <p:nvPr/>
        </p:nvSpPr>
        <p:spPr>
          <a:xfrm>
            <a:off x="1365120" y="216072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单击子菜单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[</a:t>
            </a:r>
            <a:r>
              <a:rPr b="1" lang="zh-CN" sz="1800" spc="-1" strike="noStrike">
                <a:solidFill>
                  <a:srgbClr val="0000ff"/>
                </a:solidFill>
                <a:latin typeface="Calibri"/>
              </a:rPr>
              <a:t>科研成果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]</a:t>
            </a:r>
            <a:r>
              <a:rPr b="1" lang="en-US" sz="18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[</a:t>
            </a:r>
            <a:r>
              <a:rPr b="1" lang="zh-CN" sz="1800" spc="-1" strike="noStrike">
                <a:solidFill>
                  <a:srgbClr val="0000ff"/>
                </a:solidFill>
                <a:latin typeface="Calibri"/>
              </a:rPr>
              <a:t>论文成果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]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进入论文列表，通过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1800" spc="-1" strike="noStrike">
                <a:solidFill>
                  <a:srgbClr val="0000ff"/>
                </a:solidFill>
                <a:latin typeface="Calibri"/>
              </a:rPr>
              <a:t>新增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按钮进入论文新增，填写论文信息页面，单击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1800" spc="-1" strike="noStrike">
                <a:solidFill>
                  <a:srgbClr val="0000ff"/>
                </a:solidFill>
                <a:latin typeface="Calibri"/>
              </a:rPr>
              <a:t>保存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按钮，完成论文的新增。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404040"/>
                </a:solidFill>
                <a:latin typeface="Calibri Light"/>
              </a:rPr>
              <a:t>目录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2426760" y="2440080"/>
            <a:ext cx="586116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533520" indent="-533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Calibri"/>
              </a:rPr>
              <a:t>一、系统填报范围及流程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Calibri"/>
              </a:rPr>
              <a:t>二、系统环境要求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Calibri"/>
              </a:rPr>
              <a:t>三、数据填报演示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788760" y="2487240"/>
            <a:ext cx="2097000" cy="29034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填写论文信息页面，单击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2000" spc="-1" strike="noStrike">
                <a:solidFill>
                  <a:srgbClr val="0000ff"/>
                </a:solidFill>
                <a:latin typeface="Calibri"/>
              </a:rPr>
              <a:t>保存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”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按钮，完成论文的新增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77" name="Picture 10" descr=""/>
          <p:cNvPicPr/>
          <p:nvPr/>
        </p:nvPicPr>
        <p:blipFill>
          <a:blip r:embed="rId1"/>
          <a:stretch/>
        </p:blipFill>
        <p:spPr>
          <a:xfrm>
            <a:off x="3308400" y="1622520"/>
            <a:ext cx="784692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9" descr=""/>
          <p:cNvPicPr/>
          <p:nvPr/>
        </p:nvPicPr>
        <p:blipFill>
          <a:blip r:embed="rId1"/>
          <a:stretch/>
        </p:blipFill>
        <p:spPr>
          <a:xfrm>
            <a:off x="1096920" y="3222720"/>
            <a:ext cx="9861480" cy="2754360"/>
          </a:xfrm>
          <a:prstGeom prst="rect">
            <a:avLst/>
          </a:prstGeom>
          <a:ln w="0">
            <a:noFill/>
          </a:ln>
        </p:spPr>
      </p:pic>
      <p:sp>
        <p:nvSpPr>
          <p:cNvPr id="379" name="矩形 4"/>
          <p:cNvSpPr/>
          <p:nvPr/>
        </p:nvSpPr>
        <p:spPr>
          <a:xfrm>
            <a:off x="2279520" y="2006640"/>
            <a:ext cx="7315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期刊论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论文集 ：国内外会议论文集（包括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I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的会议论文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文章：报刊上发表的文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6" descr=""/>
          <p:cNvPicPr/>
          <p:nvPr/>
        </p:nvPicPr>
        <p:blipFill>
          <a:blip r:embed="rId1"/>
          <a:stretch/>
        </p:blipFill>
        <p:spPr>
          <a:xfrm>
            <a:off x="1185840" y="3159000"/>
            <a:ext cx="9880560" cy="3067200"/>
          </a:xfrm>
          <a:prstGeom prst="rect">
            <a:avLst/>
          </a:prstGeom>
          <a:ln w="0">
            <a:noFill/>
          </a:ln>
        </p:spPr>
      </p:pic>
      <p:sp>
        <p:nvSpPr>
          <p:cNvPr id="381" name="矩形 4"/>
          <p:cNvSpPr/>
          <p:nvPr/>
        </p:nvSpPr>
        <p:spPr>
          <a:xfrm>
            <a:off x="1693800" y="1819440"/>
            <a:ext cx="86374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系统期刊库收录了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IE,CSSCI,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中文核心期刊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CSCD,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中国科技论文统计源，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Calibri"/>
              </a:rPr>
              <a:t>教师</a:t>
            </a:r>
            <a:r>
              <a:rPr b="1" lang="zh-CN" sz="1800" spc="-1" strike="noStrike" u="sng">
                <a:solidFill>
                  <a:srgbClr val="0000ff"/>
                </a:solidFill>
                <a:uFillTx/>
                <a:latin typeface="Calibri"/>
              </a:rPr>
              <a:t>必须按提示选择期刊名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Calibri"/>
              </a:rPr>
              <a:t>，系统将匹配期刊源，如不选择将无法认定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SCI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Calibri"/>
              </a:rPr>
              <a:t>等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I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论文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目前使用的是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13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年版的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I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收录期刊目录（中科院大类分区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Calibri"/>
              </a:rPr>
              <a:t>上传佐证材料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科研成果的佐证材料电子版，以附件形式上传。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论文：提供第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页，以及与系统字段相关的内容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著作：封面，作者页等与系统字段相关的内容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83" name="Picture 4" descr=""/>
          <p:cNvPicPr/>
          <p:nvPr/>
        </p:nvPicPr>
        <p:blipFill>
          <a:blip r:embed="rId1"/>
          <a:stretch/>
        </p:blipFill>
        <p:spPr>
          <a:xfrm>
            <a:off x="1368360" y="3857760"/>
            <a:ext cx="9304560" cy="21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693720" y="2212560"/>
            <a:ext cx="22161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在基本信息页中只能填写第一作者，通迅作者和其他作者的添加、修改需在作者页中进行。方式有两种：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方式一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 新增论文</a:t>
            </a:r>
            <a:r>
              <a:rPr b="1" lang="zh-CN" sz="2000" spc="-1" strike="noStrike">
                <a:solidFill>
                  <a:srgbClr val="ff3300"/>
                </a:solidFill>
                <a:latin typeface="Calibri"/>
              </a:rPr>
              <a:t>保存后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，点击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2000" spc="-1" strike="noStrike">
                <a:solidFill>
                  <a:srgbClr val="0000ff"/>
                </a:solidFill>
                <a:latin typeface="Calibri"/>
              </a:rPr>
              <a:t>添加作者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85" name="Picture 4" descr=""/>
          <p:cNvPicPr/>
          <p:nvPr/>
        </p:nvPicPr>
        <p:blipFill>
          <a:blip r:embed="rId1"/>
          <a:stretch/>
        </p:blipFill>
        <p:spPr>
          <a:xfrm>
            <a:off x="3197160" y="2212920"/>
            <a:ext cx="8559720" cy="37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方式二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 点击论文列表上的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00ff"/>
                </a:solidFill>
                <a:latin typeface="Calibri"/>
              </a:rPr>
              <a:t>编辑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”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链接，随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点击上方</a:t>
            </a:r>
            <a:r>
              <a:rPr b="0" lang="zh-CN" sz="2400" spc="-1" strike="noStrike">
                <a:solidFill>
                  <a:srgbClr val="0000ff"/>
                </a:solidFill>
                <a:latin typeface="Calibri"/>
              </a:rPr>
              <a:t>“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论文作者</a:t>
            </a:r>
            <a:r>
              <a:rPr b="0" lang="zh-CN" sz="2400" spc="-1" strike="noStrike">
                <a:solidFill>
                  <a:srgbClr val="0000ff"/>
                </a:solidFill>
                <a:latin typeface="Calibri"/>
              </a:rPr>
              <a:t>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选项卡，进入论文作者新增页面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87" name="Picture 9" descr=""/>
          <p:cNvPicPr/>
          <p:nvPr/>
        </p:nvPicPr>
        <p:blipFill>
          <a:blip r:embed="rId1"/>
          <a:stretch/>
        </p:blipFill>
        <p:spPr>
          <a:xfrm>
            <a:off x="1284120" y="3857760"/>
            <a:ext cx="9684000" cy="17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8" descr=""/>
          <p:cNvPicPr/>
          <p:nvPr/>
        </p:nvPicPr>
        <p:blipFill>
          <a:blip r:embed="rId1"/>
          <a:stretch/>
        </p:blipFill>
        <p:spPr>
          <a:xfrm>
            <a:off x="1293840" y="1201680"/>
            <a:ext cx="84582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1096920" y="2331720"/>
            <a:ext cx="1005840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通过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2000" spc="-1" strike="noStrike">
                <a:solidFill>
                  <a:srgbClr val="0000ff"/>
                </a:solidFill>
                <a:latin typeface="Calibri"/>
              </a:rPr>
              <a:t>收录情况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”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按钮进入论文收录情况查看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系统自动匹配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CI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论文，目前使用的是中科院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CI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收录期刊目录（大类分区）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90" name="Picture 5" descr=""/>
          <p:cNvPicPr/>
          <p:nvPr/>
        </p:nvPicPr>
        <p:blipFill>
          <a:blip r:embed="rId1"/>
          <a:stretch/>
        </p:blipFill>
        <p:spPr>
          <a:xfrm>
            <a:off x="1289160" y="3922560"/>
            <a:ext cx="9388440" cy="19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764640" y="2241720"/>
            <a:ext cx="1886040" cy="40240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针对上级用户审核的意见要在</a:t>
            </a:r>
            <a:r>
              <a:rPr b="0" lang="zh-CN" sz="2000" spc="-1" strike="noStrike">
                <a:solidFill>
                  <a:srgbClr val="0000ff"/>
                </a:solidFill>
                <a:latin typeface="Calibri"/>
              </a:rPr>
              <a:t>查看页面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中查看，通过单击 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[</a:t>
            </a:r>
            <a:r>
              <a:rPr b="1" lang="zh-CN" sz="2000" spc="-1" strike="noStrike">
                <a:solidFill>
                  <a:srgbClr val="0000ff"/>
                </a:solidFill>
                <a:latin typeface="Calibri"/>
              </a:rPr>
              <a:t>论文题目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]</a:t>
            </a:r>
            <a:r>
              <a:rPr b="1" lang="en-US" sz="20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[</a:t>
            </a:r>
            <a:r>
              <a:rPr b="1" lang="zh-CN" sz="2000" spc="-1" strike="noStrike">
                <a:solidFill>
                  <a:srgbClr val="0000ff"/>
                </a:solidFill>
                <a:latin typeface="Calibri"/>
              </a:rPr>
              <a:t>审核记录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]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按钮进入审核记录窗口。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92" name="Picture 6" descr=""/>
          <p:cNvPicPr/>
          <p:nvPr/>
        </p:nvPicPr>
        <p:blipFill>
          <a:blip r:embed="rId1"/>
          <a:stretch/>
        </p:blipFill>
        <p:spPr>
          <a:xfrm>
            <a:off x="2982960" y="1846440"/>
            <a:ext cx="86868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1096920" y="2534760"/>
            <a:ext cx="10058400" cy="28558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1000"/>
          </a:bodyPr>
          <a:p>
            <a:pPr marL="82080" indent="-820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bri"/>
              </a:rPr>
              <a:t>其他科研成果的填报方式与论文填报相似，请根据不同选项分批填报。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82080" indent="-820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bri"/>
              </a:rPr>
              <a:t>使用过程中有何疑问，可邮件</a:t>
            </a: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mengsy@shnu.edu.cn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82080" indent="-820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libri"/>
            </a:endParaRPr>
          </a:p>
          <a:p>
            <a:pPr marL="82080" indent="-820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libri"/>
            </a:endParaRPr>
          </a:p>
          <a:p>
            <a:pPr marL="82080" indent="-8208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4040"/>
                </a:solidFill>
                <a:latin typeface="Calibri"/>
              </a:rPr>
              <a:t>谢谢！</a:t>
            </a:r>
            <a:endParaRPr b="0" lang="en-US" sz="4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4040"/>
                </a:solidFill>
                <a:latin typeface="Calibri Light"/>
              </a:rPr>
              <a:t>填报范围及流程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1096920" y="2232000"/>
            <a:ext cx="10058400" cy="3456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1</a:t>
            </a:r>
            <a:r>
              <a:rPr b="0" lang="zh-CN" sz="2400" spc="-1" strike="noStrike">
                <a:solidFill>
                  <a:srgbClr val="404040"/>
                </a:solidFill>
                <a:latin typeface="Calibri"/>
              </a:rPr>
              <a:t>、</a:t>
            </a:r>
            <a:r>
              <a:rPr b="1" lang="zh-CN" sz="2400" spc="-1" strike="noStrike">
                <a:solidFill>
                  <a:srgbClr val="404040"/>
                </a:solidFill>
                <a:latin typeface="Calibri"/>
              </a:rPr>
              <a:t>至今为止，尤其是</a:t>
            </a: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2010</a:t>
            </a:r>
            <a:r>
              <a:rPr b="1" lang="zh-CN" sz="2400" spc="-1" strike="noStrike">
                <a:solidFill>
                  <a:srgbClr val="404040"/>
                </a:solidFill>
                <a:latin typeface="Calibri"/>
              </a:rPr>
              <a:t>年之后</a:t>
            </a:r>
            <a:r>
              <a:rPr b="0" lang="zh-CN" sz="2400" spc="-1" strike="noStrike">
                <a:solidFill>
                  <a:srgbClr val="404040"/>
                </a:solidFill>
                <a:latin typeface="Calibri"/>
              </a:rPr>
              <a:t>所获得的科研成果，包括发表论文、研究报告、著作成果等；所参加学术活动，包括主办会议、参加会议、学术讲座等；所获得的成果奖项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2</a:t>
            </a:r>
            <a:r>
              <a:rPr b="0" lang="zh-CN" sz="2400" spc="-1" strike="noStrike">
                <a:solidFill>
                  <a:srgbClr val="404040"/>
                </a:solidFill>
                <a:latin typeface="Calibri"/>
              </a:rPr>
              <a:t>、个人如实填报科研信息，根据系统要求完善个人科研内容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3</a:t>
            </a:r>
            <a:r>
              <a:rPr b="0" lang="zh-CN" sz="2400" spc="-1" strike="noStrike">
                <a:solidFill>
                  <a:srgbClr val="404040"/>
                </a:solidFill>
                <a:latin typeface="Calibri"/>
              </a:rPr>
              <a:t>、学院根据个人填报信息审核真实性、准确性和完整性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4</a:t>
            </a:r>
            <a:r>
              <a:rPr b="0" lang="zh-CN" sz="2400" spc="-1" strike="noStrike">
                <a:solidFill>
                  <a:srgbClr val="404040"/>
                </a:solidFill>
                <a:latin typeface="Calibri"/>
              </a:rPr>
              <a:t>、学校在学院审核基础上进行复审，原则上以学院审核为主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4040"/>
                </a:solidFill>
                <a:latin typeface="Calibri Light"/>
              </a:rPr>
              <a:t>系统环境要求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1536840" y="2736360"/>
            <a:ext cx="10029600" cy="22510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推荐使用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E8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浏览器，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E9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及以上版本浏览器需进行兼容性设置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系统不兼容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60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、搜狗、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OGLE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CHROME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等浏览器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38320" y="483840"/>
            <a:ext cx="7578720" cy="126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 Light"/>
              </a:rPr>
              <a:t>IE9  IE10</a:t>
            </a:r>
            <a:r>
              <a:rPr b="0" lang="zh-CN" sz="4300" spc="-1" strike="noStrike">
                <a:solidFill>
                  <a:srgbClr val="000000"/>
                </a:solidFill>
                <a:latin typeface="Calibri Light"/>
              </a:rPr>
              <a:t>浏览器兼容性视图设置</a:t>
            </a:r>
            <a:r>
              <a:rPr b="0" lang="zh-CN" sz="4300" spc="-1" strike="noStrike">
                <a:solidFill>
                  <a:srgbClr val="404040"/>
                </a:solidFill>
                <a:latin typeface="Calibri Light"/>
              </a:rPr>
              <a:t> </a:t>
            </a: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438280" y="17524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53352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0" name="Rectangle 4"/>
          <p:cNvSpPr/>
          <p:nvPr/>
        </p:nvSpPr>
        <p:spPr>
          <a:xfrm>
            <a:off x="2438280" y="1752480"/>
            <a:ext cx="792504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bd582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Rectangle 5"/>
          <p:cNvSpPr/>
          <p:nvPr/>
        </p:nvSpPr>
        <p:spPr>
          <a:xfrm>
            <a:off x="2590920" y="1905120"/>
            <a:ext cx="79246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bd582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bd582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bd582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6"/>
          <p:cNvSpPr/>
          <p:nvPr/>
        </p:nvSpPr>
        <p:spPr>
          <a:xfrm>
            <a:off x="768240" y="2552760"/>
            <a:ext cx="38624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浏览器窗口菜单栏上点击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工具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”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→选择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兼容性视图设置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弹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兼容性视图设置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页面。</a:t>
            </a:r>
            <a:br>
              <a:rPr sz="28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3" name="Picture 8" descr="IE10-3"/>
          <p:cNvPicPr/>
          <p:nvPr/>
        </p:nvPicPr>
        <p:blipFill>
          <a:blip r:embed="rId1"/>
          <a:stretch/>
        </p:blipFill>
        <p:spPr>
          <a:xfrm>
            <a:off x="5419800" y="2552760"/>
            <a:ext cx="6399000" cy="344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4"/>
          <p:cNvSpPr/>
          <p:nvPr/>
        </p:nvSpPr>
        <p:spPr>
          <a:xfrm>
            <a:off x="2438280" y="1752480"/>
            <a:ext cx="792504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bd582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2590920" y="1905120"/>
            <a:ext cx="79246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bd582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bd582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bd582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Rectangle 6"/>
          <p:cNvSpPr/>
          <p:nvPr/>
        </p:nvSpPr>
        <p:spPr>
          <a:xfrm>
            <a:off x="907920" y="2438280"/>
            <a:ext cx="3208320" cy="24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在兼容性视图设置页面中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添加网址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.shnu.edu.c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7" name="Picture 8" descr="IE10-4"/>
          <p:cNvPicPr/>
          <p:nvPr/>
        </p:nvPicPr>
        <p:blipFill>
          <a:blip r:embed="rId1"/>
          <a:stretch/>
        </p:blipFill>
        <p:spPr>
          <a:xfrm>
            <a:off x="5040360" y="2093760"/>
            <a:ext cx="6102360" cy="354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2438280" y="17524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53352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9" name="Rectangle 4"/>
          <p:cNvSpPr/>
          <p:nvPr/>
        </p:nvSpPr>
        <p:spPr>
          <a:xfrm>
            <a:off x="2438280" y="1752480"/>
            <a:ext cx="792504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bd582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5"/>
          <p:cNvSpPr/>
          <p:nvPr/>
        </p:nvSpPr>
        <p:spPr>
          <a:xfrm>
            <a:off x="2590920" y="1905120"/>
            <a:ext cx="79246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bd582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bd582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bd582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Rectangle 6"/>
          <p:cNvSpPr/>
          <p:nvPr/>
        </p:nvSpPr>
        <p:spPr>
          <a:xfrm>
            <a:off x="701640" y="2813040"/>
            <a:ext cx="3747960" cy="21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点击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添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按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点击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关闭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按钮，完成兼容性视图的设置。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2" name="Picture 8" descr="IE10-5"/>
          <p:cNvPicPr/>
          <p:nvPr/>
        </p:nvPicPr>
        <p:blipFill>
          <a:blip r:embed="rId1"/>
          <a:stretch/>
        </p:blipFill>
        <p:spPr>
          <a:xfrm>
            <a:off x="4782960" y="2208240"/>
            <a:ext cx="6218280" cy="327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4040"/>
                </a:solidFill>
                <a:latin typeface="Calibri Light"/>
              </a:rPr>
              <a:t>用户类别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34" name="内容占位符 3" descr=""/>
          <p:cNvPicPr/>
          <p:nvPr/>
        </p:nvPicPr>
        <p:blipFill>
          <a:blip r:embed="rId1"/>
          <a:stretch/>
        </p:blipFill>
        <p:spPr>
          <a:xfrm>
            <a:off x="2765520" y="1941480"/>
            <a:ext cx="672156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4040"/>
                </a:solidFill>
                <a:latin typeface="Calibri Light"/>
              </a:rPr>
              <a:t>填报演示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752120" y="2026800"/>
            <a:ext cx="9137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Calibri"/>
              </a:rPr>
              <a:t>网址直接登录：</a:t>
            </a:r>
            <a:r>
              <a:rPr b="0" lang="en-US" sz="2000" spc="-1" strike="noStrike" u="sng">
                <a:solidFill>
                  <a:srgbClr val="2998e3"/>
                </a:solidFill>
                <a:uFillTx/>
                <a:latin typeface="Calibri"/>
                <a:hlinkClick r:id="rId1"/>
              </a:rPr>
              <a:t>http://kyglkj.shnu.edu.c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Calibri"/>
              </a:rPr>
              <a:t>学校主页登录：</a:t>
            </a:r>
            <a:r>
              <a:rPr b="0" lang="en-US" sz="2000" spc="-1" strike="noStrike" u="sng">
                <a:solidFill>
                  <a:srgbClr val="2998e3"/>
                </a:solidFill>
                <a:uFillTx/>
                <a:latin typeface="Calibri"/>
                <a:hlinkClick r:id="rId2"/>
              </a:rPr>
              <a:t>http://www.shnu.edu.c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Calibri"/>
              </a:rPr>
              <a:t>两种登录方式二选一即可；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Calibri"/>
              </a:rPr>
              <a:t>请使用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inter explorer</a:t>
            </a:r>
            <a:r>
              <a:rPr b="0" lang="zh-CN" sz="2000" spc="-1" strike="noStrike">
                <a:solidFill>
                  <a:srgbClr val="ff0000"/>
                </a:solidFill>
                <a:latin typeface="Calibri"/>
              </a:rPr>
              <a:t>浏览器登录，并使用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IE</a:t>
            </a:r>
            <a:r>
              <a:rPr b="0" lang="zh-CN" sz="2000" spc="-1" strike="noStrike">
                <a:solidFill>
                  <a:srgbClr val="ff0000"/>
                </a:solidFill>
                <a:latin typeface="Calibri"/>
              </a:rPr>
              <a:t>浏览器兼容模式登录系统。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6T00:32:26Z</dcterms:created>
  <dc:creator>sam meng</dc:creator>
  <dc:description/>
  <dc:language>en-US</dc:language>
  <cp:lastModifiedBy>keji</cp:lastModifiedBy>
  <dcterms:modified xsi:type="dcterms:W3CDTF">2015-05-08T00:55:53Z</dcterms:modified>
  <cp:revision>35</cp:revision>
  <dc:subject/>
  <dc:title>科研管理系统（理科） 使用指南</dc:title>
</cp:coreProperties>
</file>